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D3E-D3EF-42D5-9A1B-AFF081A0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630-5318-452E-A006-3561D2E5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DFE-EB9A-4DF3-A4E3-C106E304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1C0-07DA-4E60-927D-394C9AF1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4639-4B98-4621-9826-5D22A4C4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F380-95B3-4938-8CD6-C9B248AD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9AD3-BFC7-4290-9BD8-F02E5927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1424-B313-4598-8433-6A70CC29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ABEB-E8DB-44F1-9E14-E6B7F556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7810-5F7D-44FC-B0E3-19E47979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15E7-B2AE-43D3-8862-81D4E64A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4C5-ACEA-4E76-9077-520439E8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38C4-9A4F-4CAE-B795-08936427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817E-5444-4BAD-9446-4580E6B1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2C06-3482-4FD3-A6A0-F45DB613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139D-39E2-4613-93C6-38D4E908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5EF9-1B91-4E42-ADEA-0A722A3D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FC5-6ACC-41B9-951A-467D51F5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D35-5F11-4A99-BBF4-E86AC29C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C3B-3FC4-41CD-9C98-40385C89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9D65-9B52-4107-B930-AAF8094A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691-2B86-4A92-9819-D840E0EE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23C-808A-4243-A5EF-0121C2A8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2BC-2A0B-4386-9DB7-C40C4F04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99ff99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104F-AB28-487B-BFD7-C944A1BD12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99ff99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1DEE-3FEA-4688-97F1-05AF5F3CD9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5616360" cy="267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Bookman Old Style"/>
              </a:rPr>
              <a:t>Роль отца в воспитании ребенк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779640" y="4437000"/>
            <a:ext cx="482436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99"/>
                </a:solidFill>
                <a:latin typeface="Bookman Old Style"/>
              </a:rPr>
              <a:t>Когда отец становится отцом, он становится сыном самому себе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99"/>
                </a:solidFill>
                <a:latin typeface="Bookman Old Style"/>
              </a:rPr>
              <a:t>Геракли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80"/>
                </a:solidFill>
                <a:latin typeface="Bookman Old Style"/>
              </a:rPr>
              <a:t>Папа </a:t>
            </a: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– это человек, который в зависимости от ситуации испытывает разные чувства по отношению к своему ребенку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Bookman Old Style"/>
              </a:rPr>
              <a:t>Иногда ощущает моральное, «корыстное» удовлетворение и гордость от мысли, что у него есть малыш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Bookman Old Style"/>
              </a:rPr>
              <a:t>Есть страх перед будущим и чувство ответственности. Хочется оградить ребенка от неприят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66"/>
                </a:solidFill>
                <a:latin typeface="Bookman Old Style"/>
              </a:rPr>
              <a:t>В семье нужны обязательно 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Bookman Old Style"/>
              </a:rPr>
              <a:t>и папа, и мама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Bookman Old Style"/>
              </a:rPr>
              <a:t>Только </a:t>
            </a:r>
            <a:r>
              <a:rPr b="1" lang="ru-RU" sz="3200" spc="-1" strike="noStrike">
                <a:solidFill>
                  <a:srgbClr val="ff0066"/>
                </a:solidFill>
                <a:latin typeface="Bookman Old Style"/>
              </a:rPr>
              <a:t>сочетание</a:t>
            </a:r>
            <a:r>
              <a:rPr b="0" lang="ru-RU" sz="3200" spc="-1" strike="noStrike">
                <a:solidFill>
                  <a:srgbClr val="ff0066"/>
                </a:solidFill>
                <a:latin typeface="Bookman Old Style"/>
              </a:rPr>
              <a:t> этих качеств формирует полноценную лич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5"/>
          <p:cNvSpPr/>
          <p:nvPr/>
        </p:nvSpPr>
        <p:spPr>
          <a:xfrm rot="344400">
            <a:off x="916560" y="2421000"/>
            <a:ext cx="3114360" cy="1557000"/>
          </a:xfrm>
          <a:prstGeom prst="rect">
            <a:avLst/>
          </a:prstGeom>
          <a:noFill/>
          <a:ln w="9360">
            <a:solidFill>
              <a:srgbClr val="8e5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мужеств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силу вол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умение бороться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  </a:t>
            </a: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побежд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 rot="21068400">
            <a:off x="5060160" y="2349360"/>
            <a:ext cx="3137400" cy="1557000"/>
          </a:xfrm>
          <a:prstGeom prst="rect">
            <a:avLst/>
          </a:prstGeom>
          <a:noFill/>
          <a:ln w="9360">
            <a:solidFill>
              <a:srgbClr val="8e5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ласку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нежн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доброту и чутк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к люд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987640" y="1628640"/>
            <a:ext cx="37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От них дети получают</a:t>
            </a:r>
            <a:r>
              <a:rPr b="0" lang="ru-RU" sz="1800" spc="-1" strike="noStrike">
                <a:solidFill>
                  <a:srgbClr val="cc33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2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260"/>
                            </p:stCondLst>
                            <p:childTnLst>
                              <p:par>
                                <p:cTn id="2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2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ff"/>
                </a:solidFill>
                <a:latin typeface="Bookman Old Style"/>
              </a:rPr>
              <a:t>В жизни мы – гениальные актеры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С самого рождения мы приучаемся играть одновременно множество ролей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Сын-Дочь, Брат-Сестра, Внук-Внучка, Друг-Подруга, Школьник-Школьница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Сотрудник, Товарищ, Начальник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Жена-Муж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Но самые значимые рол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для женщины – роль </a:t>
            </a:r>
            <a:r>
              <a:rPr b="1" lang="ru-RU" sz="3000" spc="-1" strike="noStrike">
                <a:solidFill>
                  <a:srgbClr val="008080"/>
                </a:solidFill>
                <a:latin typeface="Bookman Old Style"/>
              </a:rPr>
              <a:t>МАМЫ</a:t>
            </a: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а для мужчины – роль </a:t>
            </a:r>
            <a:r>
              <a:rPr b="1" lang="ru-RU" sz="3000" spc="-1" strike="noStrike">
                <a:solidFill>
                  <a:srgbClr val="008080"/>
                </a:solidFill>
                <a:latin typeface="Bookman Old Style"/>
              </a:rPr>
              <a:t>ПАПЫ</a:t>
            </a: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64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44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99"/>
                </a:solidFill>
                <a:latin typeface="Bookman Old Style"/>
              </a:rPr>
              <a:t>Кто такой папа?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профессионал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психолог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учител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руководител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спортсмен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врач?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99"/>
                </a:solidFill>
                <a:latin typeface="Bookman Old Style"/>
              </a:rPr>
              <a:t>«Папа – это…»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7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7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7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7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7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7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7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Bookman Old Style"/>
              </a:rPr>
              <a:t>Итак, папа – это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Глава семьи. Верно? Как правило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Кормилец, добытчик. Верно? Отчасти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Пример для подражания. Верно? Хотелось бы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Папа – это…так и хочется сказать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Bookman Old Style"/>
              </a:rPr>
              <a:t>«Папа – это ПАП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Bookman Old Style"/>
              </a:rPr>
              <a:t>... Папа – это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Любовь, надежда и опора мамы. О! Это особая тем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Для детей – глыба, скала, чье слово весомо, но кто любит их такими, какие они есть, а если и ругается, то на их неправильные поступки, а не на них самих. В идеале – да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Вечно занятый уставший человек, у которого никогда нет времени, чтобы пообщаться с детьми. Верно? И это тож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Или мифическое существо, человек-легенда, который уходит на работу, когда дети еще спят, и возвращается, когда они уже спят. Или месяцами пропадает в командировках. Быва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Bookman Old Style"/>
              </a:rPr>
              <a:t>Папа – это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Bookman Old Style"/>
              </a:rPr>
              <a:t>В первую очередь папа – это </a:t>
            </a:r>
            <a:r>
              <a:rPr b="1" lang="ru-RU" sz="3200" spc="-1" strike="noStrike">
                <a:solidFill>
                  <a:srgbClr val="ff0066"/>
                </a:solidFill>
                <a:latin typeface="Bookman Old Style"/>
              </a:rPr>
              <a:t>пример.</a:t>
            </a:r>
            <a:r>
              <a:rPr b="0" lang="ru-RU" sz="3200" spc="-1" strike="noStrike">
                <a:solidFill>
                  <a:srgbClr val="ff0066"/>
                </a:solidFill>
                <a:latin typeface="Bookman Old Style"/>
              </a:rPr>
              <a:t> Основы воспитания закладываются в семье, и какой будет пример для наших детей, такими они и вырасту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Bookman Old Style"/>
              </a:rPr>
              <a:t>Папы! Давайте вести себя так, чтобы потом не пришлось «Пенять на зеркало», т.е. на своих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ff"/>
                </a:solidFill>
                <a:latin typeface="Bookman Old Style"/>
              </a:rPr>
              <a:t>Папа</a:t>
            </a: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– это </a:t>
            </a:r>
            <a:r>
              <a:rPr b="0" lang="ru-RU" sz="2800" spc="-1" strike="noStrike">
                <a:solidFill>
                  <a:srgbClr val="ff0066"/>
                </a:solidFill>
                <a:latin typeface="Bookman Old Style"/>
              </a:rPr>
              <a:t>ответственность, любовь, спокойствие, ум, честь, совесть, радость, строгость, деньги, еда, машина, конь, веселье, злость, оптимизм, продукты жизнеобеспечения, доброта, нежность, друг, учитель, пример, опора, сила, опыт, правила, наказания, подарки, защита, стройка, дача, рыбалка, карты, домино, работа, «дела», «… тебе еще рано знать» и еще многое, многое другое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2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2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2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80"/>
                </a:solidFill>
                <a:latin typeface="Bookman Old Style"/>
              </a:rPr>
              <a:t>Папа </a:t>
            </a:r>
            <a:r>
              <a:rPr b="0" lang="ru-RU" sz="4000" spc="-1" strike="noStrike">
                <a:solidFill>
                  <a:srgbClr val="008080"/>
                </a:solidFill>
                <a:latin typeface="Bookman Old Style"/>
              </a:rPr>
              <a:t>– это 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Bookman Old Style"/>
              </a:rPr>
              <a:t>мудрость, отзывчивость </a:t>
            </a:r>
            <a:r>
              <a:rPr b="0" lang="ru-RU" sz="2400" spc="-1" strike="noStrike">
                <a:solidFill>
                  <a:srgbClr val="008080"/>
                </a:solidFill>
                <a:latin typeface="Bookman Old Style"/>
              </a:rPr>
              <a:t>(в идеале)</a:t>
            </a:r>
            <a:r>
              <a:rPr b="0" lang="ru-RU" sz="4000" spc="-1" strike="noStrike">
                <a:solidFill>
                  <a:srgbClr val="008080"/>
                </a:solidFill>
                <a:latin typeface="Bookman Old Style"/>
              </a:rPr>
              <a:t>, компромисс, твердость, решение и надеж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3:50:40Z</dcterms:created>
  <dc:creator>user</dc:creator>
  <dc:description/>
  <dc:language>en-US</dc:language>
  <cp:lastModifiedBy>HP</cp:lastModifiedBy>
  <dcterms:modified xsi:type="dcterms:W3CDTF">2020-11-05T07:18:20Z</dcterms:modified>
  <cp:revision>16</cp:revision>
  <dc:subject/>
  <dc:title>Роль отца в воспитании ребенка</dc:title>
</cp:coreProperties>
</file>